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1B8-85B2-4F77-B45D-714493EC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C31-E45D-4A5F-B46C-EC40E359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631-0292-40E1-93CC-10BDB63D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E27-D0A4-4208-8A9D-C6399973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312F-3DA8-4D20-8946-27EA63D7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59A4-2E21-450E-A7D6-95D061F9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197-1B25-44A5-BD99-C74BB237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DFD-2DA1-47A6-8FC8-9C8FC789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6EB-5A6A-4E11-A578-275C3812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35A4-61A3-4CFA-A6B9-E30ECAFA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89A-4B51-4CE8-9087-AE5BC660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92D-B82C-4F3B-AD96-DB13DAA1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E370-1A10-46AC-84CF-5A10622E1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ullSizedImage" descr="smallpox600.jpg image by Beowulf716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9:27:09Z</dcterms:created>
  <dc:creator>Erik</dc:creator>
  <dc:description/>
  <dc:language>en-US</dc:language>
  <cp:lastModifiedBy>Erik</cp:lastModifiedBy>
  <dcterms:modified xsi:type="dcterms:W3CDTF">2009-09-27T19:27:28Z</dcterms:modified>
  <cp:revision>1</cp:revision>
  <dc:subject/>
  <dc:title>Slide 1</dc:title>
</cp:coreProperties>
</file>